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F5F7A-84D2-4877-AF41-94B11A49D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F063C-BD14-473C-BCCC-9E53019DB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409A7-50E2-4658-BBF6-548EBEF6C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574A5-DB31-4C17-8ED9-7AF7D8511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5CD42-3158-4D13-82C4-B840BA224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3A778-44AA-487E-B12F-D4088B43C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E03B2-6E1D-4887-B68F-A3CDEF142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5D23C-DB78-4880-A0F6-565F68C6F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3774C-BACC-448A-82C9-058514192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AAB0C-3EBA-42BA-8922-B4D21CE9C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1F6C9-EAE7-4620-9A8F-AB0D55873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66BF5-153B-47FA-BEFC-D40D049AA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FDB1D-31F0-47CC-9DAD-2FBD7CBDF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64617-00CA-4B0A-8689-05C51AABA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AA448-69E3-4109-82BA-A836BD43D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E724B-7E98-4707-B3FD-8AC7F4EC3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C26DA-A088-467E-B6B4-8F1C2A068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2D98A2-431E-4F0C-8696-541C2C8949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DF77D-D478-430F-8B35-E08789D15C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357107-61AF-430E-8856-0A3C010A8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CFADF2-198A-4694-9B3A-3F6CDC72DA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72416-4E03-4180-8E9F-886B9864E7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3E3D7-5B3E-48BB-925C-E29269C8A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DD9BF-A449-452B-81A2-1A5726E27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61AC34-D582-4CD6-B561-4F9CE4651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86E9F-3F3C-4B77-8F32-2B145AE79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257DD-EA8F-4D85-A53A-7A826372C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28525-0B4B-4411-9BD1-35A4F3020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4D5408-B0C3-401A-BF57-452DAE60D0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808A41-ED47-45E4-AF62-B319E9FE34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994D77-45AB-44DB-A646-FF2291D7EB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9DEAE1-68F1-46E9-87C6-AAC3EE042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89A3A2-08FE-40F5-9191-9E18758242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0133C-1D3F-4FC8-87FB-DDE6CC50F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6CF586-4B14-4BDE-9030-817843CFF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576C75-961C-48D6-BEC6-BB0606D2C3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550E82-E603-481F-B8DA-6B0DA4A5CF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C0F9D-3C88-40B5-B624-6E455B7BF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D91EF-B64B-41EB-A2AE-0FE2F29436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B1409-7A93-4A0A-82A3-F4BA0222E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E18BAE-D44C-4A99-B3A8-73CFD6CB7B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27E81D-C564-4B38-8691-58AAADA61E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92D21D-A030-44F1-97E9-2FDB3EEBEE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CB8D5D-ED56-4075-B95F-63EF0F4F56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513B5-3344-47CB-B8E9-D576DD91F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9D5E76-5B7A-4089-B592-560EE1CE02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46F9A8-5014-4449-8DD3-80895F3369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AB3D3-6CF7-4413-9577-E051796155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F1A12B-B523-4F54-A96E-5E90CDC517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31B6A3-2CE5-4FF0-A7FC-51CE62E7C3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8088B-0893-4ACA-B659-461680904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7389E-3A6F-4F31-A09E-0C2B7A6C5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9917E-42EA-459B-AF6A-5043156EA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109A0D-B518-47B9-AD23-661C3A4449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97D48C-E6E0-4E8D-9FA8-329972E67E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3DA69-ED77-4B23-92CD-0B6D2CCA3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856A1D-F432-4EE4-AD09-0882C1B564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66FD17C-E067-4AB2-8BBB-A9214C8B95C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4EDA126-E1DE-4876-92D2-BDF69A023A0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59745B3-8D2B-4A7F-8DD3-E3EECDC9389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10F497B-E189-47D6-B0F1-C769E043BA6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452C67-F67C-4704-8121-439207BE3FD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1791C05-0F9D-400A-B34E-D9F6DC05628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2B07EEB-E454-46E0-AF1F-83D2E448B23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F970A6-27DC-497C-B93D-4DF7A410A66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D1EF6E5-35DB-4049-BBF6-8ACEC6BD36F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96A8A-E9F3-4E66-8730-788C28FF9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B2784E2-44DD-4CB4-9DC6-14D1F9DC35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290C34B-55D3-45CF-9A16-30BFC9C8199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9C5199C-EBD2-433B-8C02-8CE47FBC3EA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712C3-9CC0-414C-81A7-3E75986CE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A047-3F99-47EB-B4BB-FAC9D8F78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C6AC-FF5E-4859-8EF1-9C20482DD1F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9A17-3C9D-44B1-8365-991535DE8FF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0" y="0"/>
            <a:ext cx="9142560" cy="6856560"/>
            <a:chOff x="0" y="0"/>
            <a:chExt cx="9142560" cy="6856560"/>
          </a:xfrm>
        </p:grpSpPr>
        <p:sp>
          <p:nvSpPr>
            <p:cNvPr id="15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3" name=""/>
            <p:cNvGrpSpPr/>
            <p:nvPr/>
          </p:nvGrpSpPr>
          <p:grpSpPr>
            <a:xfrm>
              <a:off x="0" y="0"/>
              <a:ext cx="9142560" cy="6856560"/>
              <a:chOff x="0" y="0"/>
              <a:chExt cx="9142560" cy="6856560"/>
            </a:xfrm>
          </p:grpSpPr>
          <p:sp>
            <p:nvSpPr>
              <p:cNvPr id="15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5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5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6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6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79" name=""/>
              <p:cNvGrpSpPr/>
              <p:nvPr/>
            </p:nvGrpSpPr>
            <p:grpSpPr>
              <a:xfrm>
                <a:off x="0" y="0"/>
                <a:ext cx="9140760" cy="1658880"/>
                <a:chOff x="0" y="0"/>
                <a:chExt cx="9140760" cy="1658880"/>
              </a:xfrm>
            </p:grpSpPr>
            <p:sp>
              <p:nvSpPr>
                <p:cNvPr id="18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0" y="885960"/>
                <a:ext cx="9140760" cy="772920"/>
                <a:chOff x="0" y="885960"/>
                <a:chExt cx="9140760" cy="772920"/>
              </a:xfrm>
            </p:grpSpPr>
            <p:sp>
              <p:nvSpPr>
                <p:cNvPr id="19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419040" y="1649520"/>
                <a:ext cx="8255160" cy="5207040"/>
                <a:chOff x="419040" y="1649520"/>
                <a:chExt cx="8255160" cy="5207040"/>
              </a:xfrm>
            </p:grpSpPr>
            <p:sp>
              <p:nvSpPr>
                <p:cNvPr id="19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7"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18"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19"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E628-5E4E-42B9-9F2E-2C55775AEC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57" name=""/>
          <p:cNvGrpSpPr/>
          <p:nvPr/>
        </p:nvGrpSpPr>
        <p:grpSpPr>
          <a:xfrm>
            <a:off x="0" y="0"/>
            <a:ext cx="9142560" cy="6856560"/>
            <a:chOff x="0" y="0"/>
            <a:chExt cx="9142560" cy="6856560"/>
          </a:xfrm>
        </p:grpSpPr>
        <p:sp>
          <p:nvSpPr>
            <p:cNvPr id="25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9" name=""/>
            <p:cNvGrpSpPr/>
            <p:nvPr/>
          </p:nvGrpSpPr>
          <p:grpSpPr>
            <a:xfrm>
              <a:off x="0" y="0"/>
              <a:ext cx="9142560" cy="6856560"/>
              <a:chOff x="0" y="0"/>
              <a:chExt cx="9142560" cy="6856560"/>
            </a:xfrm>
          </p:grpSpPr>
          <p:sp>
            <p:nvSpPr>
              <p:cNvPr id="26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6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6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6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6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85" name=""/>
              <p:cNvGrpSpPr/>
              <p:nvPr/>
            </p:nvGrpSpPr>
            <p:grpSpPr>
              <a:xfrm>
                <a:off x="0" y="0"/>
                <a:ext cx="9140760" cy="1658880"/>
                <a:chOff x="0" y="0"/>
                <a:chExt cx="9140760" cy="1658880"/>
              </a:xfrm>
            </p:grpSpPr>
            <p:sp>
              <p:nvSpPr>
                <p:cNvPr id="28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1" name=""/>
              <p:cNvGrpSpPr/>
              <p:nvPr/>
            </p:nvGrpSpPr>
            <p:grpSpPr>
              <a:xfrm>
                <a:off x="0" y="885960"/>
                <a:ext cx="9140760" cy="772920"/>
                <a:chOff x="0" y="885960"/>
                <a:chExt cx="9140760" cy="772920"/>
              </a:xfrm>
            </p:grpSpPr>
            <p:sp>
              <p:nvSpPr>
                <p:cNvPr id="30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4" name=""/>
              <p:cNvGrpSpPr/>
              <p:nvPr/>
            </p:nvGrpSpPr>
            <p:grpSpPr>
              <a:xfrm>
                <a:off x="419040" y="1649520"/>
                <a:ext cx="8255160" cy="5207040"/>
                <a:chOff x="419040" y="1649520"/>
                <a:chExt cx="8255160" cy="5207040"/>
              </a:xfrm>
            </p:grpSpPr>
            <p:sp>
              <p:nvSpPr>
                <p:cNvPr id="30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2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23" name="PlaceHolder 2"/>
          <p:cNvSpPr>
            <a:spLocks noGrp="1"/>
          </p:cNvSpPr>
          <p:nvPr>
            <p:ph type="dt" idx="1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24" name="PlaceHolder 3"/>
          <p:cNvSpPr>
            <a:spLocks noGrp="1"/>
          </p:cNvSpPr>
          <p:nvPr>
            <p:ph type="ftr" idx="11"/>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25" name="PlaceHolder 4"/>
          <p:cNvSpPr>
            <a:spLocks noGrp="1"/>
          </p:cNvSpPr>
          <p:nvPr>
            <p:ph type="sldNum" idx="1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BB71-5459-475F-9089-4EEF368A58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6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6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36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8395-3C9D-406E-80F5-6F47C577B4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0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06"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A6E6-D3E8-4163-87B3-5124443565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7"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et The Author!</a:t>
            </a:r>
            <a:endParaRPr b="0" lang="en-US" sz="4400" spc="-1" strike="noStrike">
              <a:solidFill>
                <a:srgbClr val="dbbd71"/>
              </a:solidFill>
              <a:latin typeface="Arial"/>
            </a:endParaRPr>
          </a:p>
        </p:txBody>
      </p:sp>
      <p:sp>
        <p:nvSpPr>
          <p:cNvPr id="4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is power point was created by    </a:t>
            </a:r>
            <a:r>
              <a:rPr b="0" lang="en-US" sz="3200" spc="-1" strike="noStrike">
                <a:solidFill>
                  <a:srgbClr val="ffffff"/>
                </a:solidFill>
                <a:latin typeface="Tahoma"/>
              </a:rPr>
              <a:t>	</a:t>
            </a:r>
            <a:r>
              <a:rPr b="0" lang="en-US" sz="3200" spc="-1" strike="noStrike">
                <a:solidFill>
                  <a:srgbClr val="ffffff"/>
                </a:solidFill>
                <a:latin typeface="Tahoma"/>
              </a:rPr>
              <a:t>  Madison Evans and Kadidja Ko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46" name=""/>
          <p:cNvSpPr txBox="1"/>
          <p:nvPr/>
        </p:nvSpPr>
        <p:spPr>
          <a:xfrm>
            <a:off x="762120" y="685800"/>
            <a:ext cx="7162560" cy="1600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elief in the Afterlife!</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47" name="PlaceHolder 1"/>
          <p:cNvSpPr>
            <a:spLocks noGrp="1"/>
          </p:cNvSpPr>
          <p:nvPr>
            <p:ph/>
          </p:nvPr>
        </p:nvSpPr>
        <p:spPr>
          <a:xfrm>
            <a:off x="457200" y="3198960"/>
            <a:ext cx="8229600" cy="2931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gyptian’s hearts would be weighed by Anubis if they had a heavy heart they would go to heaven! They better hope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at it is heav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 want my mummy!!</a:t>
            </a:r>
            <a:endParaRPr b="0" lang="en-US" sz="4400" spc="-1" strike="noStrike">
              <a:solidFill>
                <a:srgbClr val="ccecff"/>
              </a:solidFill>
              <a:latin typeface="Arial"/>
            </a:endParaRPr>
          </a:p>
        </p:txBody>
      </p:sp>
      <p:sp>
        <p:nvSpPr>
          <p:cNvPr id="44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Egyptians would wrap the recently deceased in satin cloth to preserve the bodies. Then they would put them in there own specific tombs. The Egyptians sacrificed many animals but, mainly hors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06360"/>
            <a:ext cx="8229600" cy="137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 going rowing in the afterlife river. Isn't death fine!</a:t>
            </a:r>
            <a:endParaRPr b="0" lang="en-US" sz="4000" spc="-1" strike="noStrike">
              <a:solidFill>
                <a:srgbClr val="ffffff"/>
              </a:solidFill>
              <a:latin typeface="Tahoma"/>
            </a:endParaRPr>
          </a:p>
        </p:txBody>
      </p:sp>
      <p:sp>
        <p:nvSpPr>
          <p:cNvPr id="4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gyptians believed that the recently deceased traveled to the afterlife on boats! I think that they need to read a little more!          Row, row, row, r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6:56:33Z</dcterms:created>
  <dc:creator>Default</dc:creator>
  <dc:description/>
  <dc:language>en-US</dc:language>
  <cp:lastModifiedBy>Default</cp:lastModifiedBy>
  <dcterms:modified xsi:type="dcterms:W3CDTF">2009-01-16T17:17:03Z</dcterms:modified>
  <cp:revision>4</cp:revision>
  <dc:subject/>
  <dc:title>Slide 1</dc:title>
</cp:coreProperties>
</file>